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A13-7582-4AD3-9A42-18AD5F88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74F-87EA-43B5-8694-67A54793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EAF-CCFA-429B-9AC7-DB74C17E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FC5-F906-44CA-8548-CFF621D3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DDB-0DF7-43D0-94E8-748B466D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0DD-933F-4F94-9068-30B5AAD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713-79DF-434E-AC57-AB46B16B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C86F-F387-4146-A6E4-BA1B4EA8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0FE7-6487-486A-A2B6-43C3DA8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12C1-7506-4E49-8B04-EC7C94F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062-0525-4B88-8AD6-0450B8E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F34-6A68-4A2E-84FE-B03C973A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8BAF-9B74-43BE-9D51-2D3A29D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C81-B3E7-41A8-B0B2-A7D0894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6CA-0DCC-4E83-A1DF-FB4E8BB8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2EA8-23A2-4123-8BD7-ECA57176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53A-397F-43B4-8D5B-2CA2A14E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0BCA-601A-4082-AD8A-342A05AE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849A-21BE-4F99-AA59-8ADC4F3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9A6B-EE7C-460D-B707-0A25E8F7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FBA2-F996-418F-8B96-0B5A8F7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FDA8-484D-4FA8-A24B-983B1342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506-9403-42FB-BEF0-552DF46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E27B-5208-42BA-A1D0-5CD894AE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7E21-8824-48F8-A33D-5E076BE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AB4D-5FDA-4DAA-81D4-BF9D02E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22CE-A51A-474A-A910-C6811F07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6195-CFEE-4737-BAA3-D1304EC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EE6F-DD81-4B62-8FF2-48DC3E1E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0A92-4639-4D70-BB1D-6433C95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6B53-E82B-45B9-A278-C2A867CA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5D10-772B-4F38-A6B5-B8552D70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FEF9-DD8E-41E8-969A-88E62843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F8D-4966-44E2-B141-CE9817D0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7716-9071-474C-9FAC-1230FD4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75F6-4FE7-4946-A30C-F66C08D5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4585-4A0E-4633-B9DD-A3ACBBD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7BBE-6E9B-49F6-BF59-6C32FDD9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B484-6228-45FB-B6AC-91CE0F2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1A01-476B-45C1-9878-6DB0186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F5FA-CFE3-496D-B9E5-85747D9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D02B-2C08-415F-9B20-50D93EFF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BDD0-3316-4988-B962-987B4FDA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B982-909C-4F28-AF35-C8A8C7AE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2ED-1C2B-44C7-8B8D-A3621987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1700-5A23-47F9-A65C-8A87F3F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C240-0579-44EF-B7A0-9586B47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1E1B-2521-4192-956E-9C4AE388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E54A-8AAA-416B-9CBA-BD42DB1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5F6C-1BEB-4B76-BB9A-6698559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0D1C-B7C2-4FA3-81DE-A39958C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D756-3B9D-4FB6-9597-14C893E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AE1C-2DAE-4827-91B8-5FF8B0B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C4F8-397C-49F3-9992-6687278F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9DDF-2671-4FBB-9365-D78B1A36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944-1A51-4C2A-BEF5-4BB42EE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AC8E-C9A8-4A76-A162-EF21950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95BF-C2DE-4D0F-AA90-DFD2E22D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3DDAF-BF6E-4B86-933C-45A0F382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5FAA-A7B3-49BD-8F9F-C802707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300D3-2DA1-495A-9DCB-FCB33E19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80093-B533-4B06-B766-25288B8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3CF0-EF4C-4EBF-89FF-2F283D75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E597-F860-4947-A0ED-76531091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6D47-E03C-4803-8CE1-DC555A7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1B96-1FC1-4EDF-AA0C-B4B513B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424-856F-459B-9218-BC6B0D4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A2BC-E414-4392-B65D-2595F506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4DF7-07B4-4C0A-8AE4-9F0F4038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D3AD-78D0-48BC-BE4C-FB4CF62F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95A-5FCB-4869-B957-F92C7AC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39F-7A49-4573-B1E7-6D206B1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F13-CCC8-4142-A956-301378362C04}" type="slidenum">
              <a:rPr b="0" lang="en-US" sz="16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5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4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rush Script Std"/>
                </a:endParaRPr>
              </a:p>
            </p:txBody>
          </p:sp>
          <p:pic>
            <p:nvPicPr>
              <p:cNvPr id="5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2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D66-10B1-41A4-928A-18CDB0779CB8}" type="slidenum">
              <a:rPr b="0" lang="en-US" sz="9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6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pic>
          <p:nvPicPr>
            <p:cNvPr id="96" name="Rectangle 8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1715-0AAD-4755-9F3D-101274FB3198}" type="slidenum">
              <a:rPr b="0" lang="en-US" sz="9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8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13D-55F9-4408-8A0A-45D57A22C87F}" type="slidenum">
              <a:rPr b="0" lang="en-US" sz="16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8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EF3E-83C2-429C-AD54-2F2976976A3F}" type="slidenum">
              <a:rPr b="0" lang="en-US" sz="16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8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  <p:sp>
          <p:nvSpPr>
            <p:cNvPr id="231" name="Oval 20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rush Script Std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ddyup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iddyup St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Giddyup St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98E-C0F5-4766-93BB-7E6F1D30C778}" type="slidenum">
              <a:rPr b="0" lang="en-US" sz="1600" spc="-1" strike="noStrike">
                <a:solidFill>
                  <a:srgbClr val="000000"/>
                </a:solidFill>
                <a:latin typeface="Giddyup St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99_1"/>
          <p:cNvPicPr/>
          <p:nvPr/>
        </p:nvPicPr>
        <p:blipFill>
          <a:blip r:embed="rId1"/>
          <a:stretch/>
        </p:blipFill>
        <p:spPr>
          <a:xfrm>
            <a:off x="2571840" y="0"/>
            <a:ext cx="6352920" cy="454356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1865160" y="4846680"/>
            <a:ext cx="66024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rush Script Std"/>
              </a:rPr>
              <a:t>3.  Как зовут доброго доктора, который лечил зверей, птиц и насекомых в сказке К.И. Чуковского?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ddyup Std"/>
              </a:rPr>
              <a:t>АЙБОЛИТ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295" name="Picture 6" descr="http://forchel.ru/uploads/posts/2010-10/1286799577_doktor-aybolit.jpg"/>
          <p:cNvPicPr/>
          <p:nvPr/>
        </p:nvPicPr>
        <p:blipFill>
          <a:blip r:embed="rId1"/>
          <a:stretch/>
        </p:blipFill>
        <p:spPr>
          <a:xfrm>
            <a:off x="3714840" y="2286000"/>
            <a:ext cx="2847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rush Script Std"/>
              </a:rPr>
              <a:t>4.  Как зовут малышей-коротышек из сказки Н. Носова «Приключение Незнайки и его друзей?»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iddyup Std"/>
              </a:rPr>
              <a:t>НЕЗНАЙКА, ТЮБИК, ЗНАЙКА, ПУЛЬКА..</a:t>
            </a:r>
            <a:endParaRPr b="0" lang="en-US" sz="4000" spc="-1" strike="noStrike">
              <a:solidFill>
                <a:srgbClr val="000000"/>
              </a:solidFill>
              <a:latin typeface="Giddyup Std"/>
            </a:endParaRPr>
          </a:p>
        </p:txBody>
      </p:sp>
      <p:pic>
        <p:nvPicPr>
          <p:cNvPr id="298" name="Picture 2" descr="http://t0.gstatic.com/images?q=tbn:ANd9GcR1wGT9kvI6OvmE26hZavJVC03szqZoEhZLcycGuoYOxjtr0nnPKop_erEl"/>
          <p:cNvPicPr/>
          <p:nvPr/>
        </p:nvPicPr>
        <p:blipFill>
          <a:blip r:embed="rId1"/>
          <a:stretch/>
        </p:blipFill>
        <p:spPr>
          <a:xfrm>
            <a:off x="3429000" y="2214720"/>
            <a:ext cx="4071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rush Script Std"/>
              </a:rPr>
              <a:t>Как мы запишем имена героев сказки?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2" descr=""/>
          <p:cNvPicPr/>
          <p:nvPr/>
        </p:nvPicPr>
        <p:blipFill>
          <a:blip r:embed="rId1"/>
          <a:stretch/>
        </p:blipFill>
        <p:spPr>
          <a:xfrm>
            <a:off x="2298600" y="2206800"/>
            <a:ext cx="6521400" cy="79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Содержимое 2" descr=""/>
          <p:cNvPicPr/>
          <p:nvPr/>
        </p:nvPicPr>
        <p:blipFill>
          <a:blip r:embed="rId1"/>
          <a:stretch/>
        </p:blipFill>
        <p:spPr>
          <a:xfrm>
            <a:off x="2298600" y="2206800"/>
            <a:ext cx="6521400" cy="79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Содержимое 2" descr=""/>
          <p:cNvPicPr/>
          <p:nvPr/>
        </p:nvPicPr>
        <p:blipFill>
          <a:blip r:embed="rId1"/>
          <a:stretch/>
        </p:blipFill>
        <p:spPr>
          <a:xfrm>
            <a:off x="2193840" y="2206800"/>
            <a:ext cx="6724800" cy="79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9360">
            <a:solidFill>
              <a:srgbClr val="8fcb17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ushkin"/>
              </a:rPr>
              <a:t>	</a:t>
            </a:r>
            <a:r>
              <a:rPr b="1" i="1" lang="ru-RU" sz="2400" spc="-1" strike="noStrike">
                <a:solidFill>
                  <a:srgbClr val="097923"/>
                </a:solidFill>
                <a:latin typeface="Brush Script Std"/>
              </a:rPr>
              <a:t>Между живущих людей безымянных не бывает вовсе: в минуту рождения каждый — и низкий, и знатный — имя свое от родителей в сладостный дар получает...</a:t>
            </a:r>
            <a:endParaRPr b="0" lang="en-US" sz="24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rush Script Std"/>
              </a:rPr>
              <a:t>(Гомер)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Наталья, Наточка, Наташенька, Наталенька, Натуленъка, Натусенъка.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Екатерина, Катенька, Катюша, Катерина, Касенька.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Любовь, Любонька, Любаня, Любаша, Любушка, Любочка.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Brush Script Std"/>
              </a:rPr>
              <a:t>Марьюшка, Марусенька, Машенька и Манечка побежали в лавочку и купили пряничка.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305" name="Picture 2" descr="http://dress4girl.ru/wp-content/uploads/2010/08/girls-party-dresse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923"/>
                </a:solidFill>
                <a:latin typeface="Brush Script Std"/>
              </a:rPr>
              <a:t>Тема: </a:t>
            </a:r>
            <a:r>
              <a:rPr b="0" lang="ru-RU" sz="2000" spc="-1" strike="noStrike">
                <a:solidFill>
                  <a:srgbClr val="000000"/>
                </a:solidFill>
                <a:latin typeface="Brush Script Std"/>
              </a:rPr>
              <a:t>«Большая буква в именах. Тайны имени».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923"/>
                </a:solidFill>
                <a:latin typeface="Brush Script Std"/>
              </a:rPr>
              <a:t>Цели: </a:t>
            </a:r>
            <a:r>
              <a:rPr b="0" lang="ru-RU" sz="2000" spc="-1" strike="noStrike">
                <a:solidFill>
                  <a:srgbClr val="000000"/>
                </a:solidFill>
                <a:latin typeface="Brush Script Std"/>
              </a:rPr>
              <a:t>Закрепить умение писать имена с большой буквы; пробудить интерес к истории происхождения своего имени; вызвать эмоциональное стремление к поисковой, исследовательской работе по истории происхождения имен друзей, родителей, близких.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7923"/>
                </a:solidFill>
                <a:latin typeface="Brush Script Std"/>
              </a:rPr>
              <a:t>Оборудование: </a:t>
            </a:r>
            <a:r>
              <a:rPr b="0" lang="ru-RU" sz="2000" spc="-1" strike="noStrike">
                <a:solidFill>
                  <a:srgbClr val="000000"/>
                </a:solidFill>
                <a:latin typeface="Brush Script Std"/>
              </a:rPr>
              <a:t>таблички с названиями залов; рисунки сказочных героев(мультимедиа); карточки с именами и текстами.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ddyup Std"/>
              </a:rPr>
              <a:t>«В ЗАЩИТУ ДЕТЕЙ»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37920" y="200016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rush Script Std"/>
              </a:rPr>
              <a:t>Если только ты умен, Не давай ребятам Столь затейливых имен, Как Протон и Атом. Удружить хотела мать Дочке белокурой, Вот и вздумала назвать Дочку Диктатурой. Хоть семья ее звала Сокращенно Дита, На родителей была Девушка сердита. Для другой искал отец Имя похитрее, И назвал он наконец Дочь свою Идея. Звали мама и сестра Девочку Идейкой, А ребята со двора Стали звать Индейкой. А один оригинал, Начинен газетой, Сына Спутником назвал, Дочь назвал Ракетой. Пусть поймут отец и мать, Что с прозваньем этим Век придется вековать Неразлучно детям.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rush Script Std"/>
              </a:rPr>
              <a:t>С.Я. Маршак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ddyup Std"/>
              </a:rPr>
              <a:t>«ВОСЕМЬ ТАНЬ»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В первом классе восемь Тань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-Это прямо наказанье! 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Ведь у них, куда не глянь, 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Всюду Таня, Таня, Таня!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Если скажут: «Таня, встань!»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-Встанут сразу восемь Тань. 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А ведь можно очень просто 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rush Script Std"/>
              </a:rPr>
              <a:t>Разобраться в новичках...</a:t>
            </a: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Содержимое 2" descr=""/>
          <p:cNvPicPr/>
          <p:nvPr/>
        </p:nvPicPr>
        <p:blipFill>
          <a:blip r:embed="rId1"/>
          <a:stretch/>
        </p:blipFill>
        <p:spPr>
          <a:xfrm>
            <a:off x="2298600" y="2206800"/>
            <a:ext cx="6521400" cy="79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437920" y="2285640"/>
            <a:ext cx="4133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1.Образуйте имена из следующих сочетаний слов: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владеть миром 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любить мир 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свято славить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людям мила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владеющий славой 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владеющий всем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Brush Script Std"/>
              </a:rPr>
              <a:t>стать славным</a:t>
            </a: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  <a:p>
            <a:pPr marL="452520" indent="-45252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312" name="Прямоугольник 4" descr=""/>
          <p:cNvPicPr/>
          <p:nvPr/>
        </p:nvPicPr>
        <p:blipFill>
          <a:blip r:embed="rId1"/>
          <a:stretch/>
        </p:blipFill>
        <p:spPr>
          <a:xfrm>
            <a:off x="1852560" y="-212760"/>
            <a:ext cx="7297920" cy="20178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5"/>
          <p:cNvSpPr/>
          <p:nvPr/>
        </p:nvSpPr>
        <p:spPr>
          <a:xfrm>
            <a:off x="6715080" y="2786040"/>
            <a:ext cx="2000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Владимир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Любомир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Святослав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Владислав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Всеволод 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Станислав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437920" y="2285640"/>
            <a:ext cx="43484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2.Назовите пары для литературных героев: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Иван да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Руслан и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Алёнушка и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Робинзон и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Том Сойер и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858000" y="3143160"/>
            <a:ext cx="192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Марья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Иванушка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Пятница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Гек Финн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437920" y="2285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rush Script Std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Brush Script Std"/>
              </a:rPr>
              <a:t>.Назвать женские имена с удвоенной согласной в корне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3071880" y="4429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rush Script Std"/>
              </a:rPr>
              <a:t>Жанна, Изабелла, Инна, Марианна.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1487520"/>
            <a:ext cx="6797520" cy="20178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"/>
          <p:cNvSpPr/>
          <p:nvPr/>
        </p:nvSpPr>
        <p:spPr>
          <a:xfrm>
            <a:off x="1979640" y="3717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Кашина Раиса Владимировна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У Введенской СОШ №3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 Звенигород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ола АБ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320" name="Рисунок 4" descr="G:\для сайта работы\эмблема\новое название .png"/>
          <p:cNvPicPr/>
          <p:nvPr/>
        </p:nvPicPr>
        <p:blipFill>
          <a:blip r:embed="rId2"/>
          <a:stretch/>
        </p:blipFill>
        <p:spPr>
          <a:xfrm>
            <a:off x="6877080" y="4724280"/>
            <a:ext cx="1876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ush Script Std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Brush Script Std"/>
              </a:rPr>
              <a:t>.       Организационный момент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rush Script Std"/>
              </a:rPr>
              <a:t>П.      Сообщение темы урока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ush Script Std"/>
              </a:rPr>
              <a:t>III</a:t>
            </a:r>
            <a:r>
              <a:rPr b="1" lang="ru-RU" sz="2200" spc="-1" strike="noStrike">
                <a:solidFill>
                  <a:srgbClr val="000000"/>
                </a:solidFill>
                <a:latin typeface="Brush Script Std"/>
              </a:rPr>
              <a:t>.    Чистописание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ush Script Std"/>
              </a:rPr>
              <a:t>IV</a:t>
            </a:r>
            <a:r>
              <a:rPr b="1" lang="ru-RU" sz="2200" spc="-1" strike="noStrike">
                <a:solidFill>
                  <a:srgbClr val="000000"/>
                </a:solidFill>
                <a:latin typeface="Brush Script Std"/>
              </a:rPr>
              <a:t>.     Работа по теме урока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rush Script Std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Brush Script Std"/>
              </a:rPr>
              <a:t>.      Итог урока</a:t>
            </a: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277" name="Прямоугольник 3" descr=""/>
          <p:cNvPicPr/>
          <p:nvPr/>
        </p:nvPicPr>
        <p:blipFill>
          <a:blip r:embed="rId1"/>
          <a:stretch/>
        </p:blipFill>
        <p:spPr>
          <a:xfrm>
            <a:off x="2749680" y="219240"/>
            <a:ext cx="4546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iddyup Std"/>
              </a:rPr>
              <a:t>СООБЩЕНИЕ ТЕМЫ УРОКА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pic>
        <p:nvPicPr>
          <p:cNvPr id="279" name="Содержимое 2" descr=""/>
          <p:cNvPicPr/>
          <p:nvPr/>
        </p:nvPicPr>
        <p:blipFill>
          <a:blip r:embed="rId1"/>
          <a:stretch/>
        </p:blipFill>
        <p:spPr>
          <a:xfrm>
            <a:off x="2298600" y="2206800"/>
            <a:ext cx="6521400" cy="79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рямоугольник 3" descr=""/>
          <p:cNvPicPr/>
          <p:nvPr/>
        </p:nvPicPr>
        <p:blipFill>
          <a:blip r:embed="rId1"/>
          <a:stretch/>
        </p:blipFill>
        <p:spPr>
          <a:xfrm>
            <a:off x="1474920" y="146160"/>
            <a:ext cx="7688160" cy="1195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moja-skazka.ru/wp-content/uploads/2009/09/12.jpg"/>
          <p:cNvPicPr/>
          <p:nvPr/>
        </p:nvPicPr>
        <p:blipFill>
          <a:blip r:embed="rId2"/>
          <a:stretch/>
        </p:blipFill>
        <p:spPr>
          <a:xfrm>
            <a:off x="2928960" y="2071800"/>
            <a:ext cx="4762440" cy="3809880"/>
          </a:xfrm>
          <a:prstGeom prst="rect">
            <a:avLst/>
          </a:prstGeom>
          <a:ln w="9360">
            <a:solidFill>
              <a:srgbClr val="8dae5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rush Script Std"/>
              </a:rPr>
              <a:t>1.  В чашечке тюльпана на зеленом листике сидела девочка. Она была маленькая-маленькая, всего в один дюйм. Ее так и прозвали...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283" name="betkhoven_-_lunnaya_sonata(zaycev.net)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4322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ddyup Std"/>
              </a:rPr>
              <a:t>ДЮЙМОВОЧКА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sp>
        <p:nvSpPr>
          <p:cNvPr id="2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rush Script Std"/>
            </a:endParaRPr>
          </a:p>
        </p:txBody>
      </p:sp>
      <p:pic>
        <p:nvPicPr>
          <p:cNvPr id="287" name="Picture 6" descr="http://dvafisha.ru/images/ustore/9/17/s22C4Q1T7x3k_11149_XL.jpg"/>
          <p:cNvPicPr/>
          <p:nvPr/>
        </p:nvPicPr>
        <p:blipFill>
          <a:blip r:embed="rId1"/>
          <a:stretch/>
        </p:blipFill>
        <p:spPr>
          <a:xfrm>
            <a:off x="2428920" y="2357280"/>
            <a:ext cx="6143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rush Script Std"/>
              </a:rPr>
              <a:t>2.  Девочка, беленькая, как снежок, и кругленькая, как шарик, говорит старикам: «Я из вешнего снегу скатана, вешним солнышком пригрета и нарумянена. Зовут меня...»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ddyup Std"/>
              </a:rPr>
              <a:t>СНЕГУРОЧКА</a:t>
            </a:r>
            <a:endParaRPr b="0" lang="en-US" sz="4400" spc="-1" strike="noStrike">
              <a:solidFill>
                <a:srgbClr val="000000"/>
              </a:solidFill>
              <a:latin typeface="Giddyup Std"/>
            </a:endParaRPr>
          </a:p>
        </p:txBody>
      </p:sp>
      <p:pic>
        <p:nvPicPr>
          <p:cNvPr id="290" name="Picture 2" descr="http://www.deduchka-moroz.ru/content/uploaded/image/ded-023.jpg"/>
          <p:cNvPicPr/>
          <p:nvPr/>
        </p:nvPicPr>
        <p:blipFill>
          <a:blip r:embed="rId1"/>
          <a:stretch/>
        </p:blipFill>
        <p:spPr>
          <a:xfrm>
            <a:off x="3857760" y="2357280"/>
            <a:ext cx="30002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01:30Z</dcterms:created>
  <dc:creator>FuckYouBill</dc:creator>
  <dc:description/>
  <dc:language>en-US</dc:language>
  <cp:lastModifiedBy>Борис</cp:lastModifiedBy>
  <dcterms:modified xsi:type="dcterms:W3CDTF">2014-06-30T16:14:43Z</dcterms:modified>
  <cp:revision>11</cp:revision>
  <dc:subject/>
  <dc:title>Слайд 1</dc:title>
</cp:coreProperties>
</file>